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833-2FC2-48C6-85B2-C0A89FF7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CD9-F1CA-4349-A75C-A4E73F91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CD3-0160-4B2A-A365-A4641E23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9EB-BAE1-444D-AD22-64B81E4C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B401-CE58-4B46-B145-888D0CA6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FA2A-0CC9-455F-9314-6E049A50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8490-0C04-451E-BBEF-AF86D7C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9693-8C46-48FD-8BE6-896EA488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B213-25A5-429B-9B78-65A8BAB9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55B9-7E80-4791-A05C-3ED5F3D0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AFA0-5AFC-4DAD-B121-2F28E39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5C9-12CD-4DEF-A388-EB42B36A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3AC4-4AB9-4895-BBB4-2B88DB8F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8EA5-5A97-4CFD-9FC7-DFE0090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BDFA-1DF5-45E1-BA27-ACF4B8CD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DF8C-93EA-4B35-BCD8-3D9BDACF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43B1-E2DD-4CE7-A153-832EDC3C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31D-0132-4626-BB33-04439B0F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60F-31E5-4A14-86C0-97B9371E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9CD-8593-471C-8706-3E2BC8DB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E77-2918-4DA8-8B4B-8C7B76BF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612-6108-4E96-9887-E3E6597E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B76-037F-433F-A07F-0A910419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3E9-3FD4-444E-9101-354B29E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E9D2-8975-47E9-B85C-ECB26EFBBB06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9FE5-4671-44FD-B67C-007420EF5C0F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Putting the Big6</a:t>
            </a:r>
            <a:r>
              <a:rPr b="0" lang="en-US" sz="32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 in Action at Hom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5. Synthesi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Ask for a summary in the child’s own word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Ask if the information meets the requirements of the original task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6. Evalu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Final check. Does it meet the teacher’s expectations? (Product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as the process efficient? What about the process can help the child in the future? (Proces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elp children think about what they need to d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courage independenc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elp the child assume responsibilit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emember that the child is the thinker and doer. The parent is the coach on the sidelin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Bibliograph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Eisenberg, Michael B.; Berkowitz, Robert E. (1996). </a:t>
            </a:r>
            <a:r>
              <a:rPr b="0" i="1" lang="en-US" sz="2800" spc="-1" strike="noStrike">
                <a:solidFill>
                  <a:srgbClr val="212164"/>
                </a:solidFill>
                <a:latin typeface="Arial"/>
              </a:rPr>
              <a:t>Helping with Homework: A Parent's Guide to Information Problem-Solving.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Syracuse, NY: ERIC Clearinghouse on Information and Technology. Available: Linworth Publishing, Inc. ED418699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at is the Big6</a:t>
            </a:r>
            <a:r>
              <a:rPr b="0" lang="en-US" sz="44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search Model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t is a process model of how people solve information problem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eople use these steps every da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ur students will be using the Big6</a:t>
            </a:r>
            <a:r>
              <a:rPr b="0" lang="en-US" sz="32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process model at schoo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arents can use it as a guide to helping students with homework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Big6</a:t>
            </a:r>
            <a:r>
              <a:rPr b="0" lang="en-US" sz="44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Ste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ask Defini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do I need to do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at types of information do I nee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1216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formation Seeking Strategi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at are possible sources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ich are the bes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Big6</a:t>
            </a:r>
            <a:r>
              <a:rPr b="0" lang="en-US" sz="44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Ste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3. Location and Acces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ere is each sourc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Where is the information in each sourc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4. Use of Information - Read, Think, Writ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can I best use each source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nformation in each source is useful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44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can I take notes using the Trash &amp; Treasure metho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Big6</a:t>
            </a:r>
            <a:r>
              <a:rPr b="1" lang="en-US" sz="4400" spc="-1" strike="noStrike">
                <a:solidFill>
                  <a:srgbClr val="212164"/>
                </a:solidFill>
                <a:latin typeface="ヒラギノ角ゴ Pro W3"/>
              </a:rPr>
              <a:t>_x0014__x0014__x0014_</a:t>
            </a:r>
            <a:r>
              <a:rPr b="0" lang="en-US" sz="4400" spc="-1" strike="noStrike">
                <a:solidFill>
                  <a:srgbClr val="212164"/>
                </a:solidFill>
                <a:latin typeface="Symbol"/>
                <a:ea typeface="Symbol"/>
              </a:rPr>
              <a:t>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Step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5. Synthesi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can I organize all the information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can I present the resul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6. Evalu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did I do? Did I do my best? (Product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ow can I do things better in the future? (Proces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parent is the coach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student is the thinker and do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ask Defini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ave your child explain the assignment in his own word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formation Seeking Strategi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Talk about possible resources for the assignmen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3. Location and Acces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elp your child find useful resources. (Remember the index, table of contents, and headings for books.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Supervise use of the Internet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Guide their search strategies onlin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 Help children evaluate websites for accuracy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elping with Homewor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64"/>
                </a:solidFill>
                <a:latin typeface="Arial"/>
              </a:rPr>
              <a:t>4. Use of Information - Read, Think, Write</a:t>
            </a:r>
            <a:endParaRPr b="0" lang="en-US" sz="3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Discuss what information is useful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Help the child decide how to use the informatio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Encourage Trash &amp; Treasure note taking, if notes are needed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1:50:44Z</dcterms:created>
  <dc:creator>ccsd181 ccsd181</dc:creator>
  <dc:description/>
  <dc:language>en-US</dc:language>
  <cp:lastModifiedBy>ccsd181 ccsd181</cp:lastModifiedBy>
  <dcterms:modified xsi:type="dcterms:W3CDTF">2007-07-16T03:51:25Z</dcterms:modified>
  <cp:revision>6</cp:revision>
  <dc:subject/>
  <dc:title>Helping with Homework</dc:title>
</cp:coreProperties>
</file>